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079280" y="7480080"/>
            <a:ext cx="10845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9280" y="2920680"/>
            <a:ext cx="10845720" cy="2413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79280" y="5359320"/>
            <a:ext cx="10845720" cy="1379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3296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18512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6218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073600" indent="-4831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524320" indent="-4820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360" y="1663200"/>
            <a:ext cx="5651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95360" y="4990680"/>
            <a:ext cx="5651280" cy="3073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Click to edit the outline text format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1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con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2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Third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3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our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4" algn="ctr">
              <a:buClr>
                <a:srgbClr val="7e8484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Fif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5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ix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  <a:p>
            <a:pPr lvl="6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e8484"/>
                </a:solidFill>
                <a:latin typeface="American Typewriter"/>
              </a:rPr>
              <a:t>Seventh Outline Level</a:t>
            </a:r>
            <a:endParaRPr b="0" lang="en-US" sz="50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079280" y="2526840"/>
            <a:ext cx="1084572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5096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276200" indent="-4600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784520" indent="-460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308320" indent="-4590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833560" indent="-4586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2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3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4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2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3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4" algn="ctr">
              <a:buClr>
                <a:srgbClr val="ffffff"/>
              </a:buClr>
              <a:buFont typeface="American Typewrite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5">
              <a:spcBef>
                <a:spcPts val="901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  <a:p>
            <a:pPr lvl="6">
              <a:spcBef>
                <a:spcPts val="901"/>
              </a:spcBef>
              <a:buClr>
                <a:srgbClr val="ffffff"/>
              </a:buClr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079640" y="2526840"/>
            <a:ext cx="523224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0000"/>
          </a:bodyPr>
          <a:p>
            <a:pPr marL="60048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020960" indent="-3679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427400" indent="-3682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846440" indent="-3672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266560" indent="-3668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72400" y="2526840"/>
            <a:ext cx="4152960" cy="6108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1000"/>
          </a:bodyPr>
          <a:p>
            <a:pPr marL="53316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905760" indent="-326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266840" indent="-32688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1638720" indent="-32580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011680" indent="-32544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9280" y="151920"/>
            <a:ext cx="1084572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1079280" y="875880"/>
            <a:ext cx="10845720" cy="800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5248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1" marL="13780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2" marL="188604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3" marL="2411280" indent="-56196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4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5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  <a:p>
            <a:pPr lvl="6" marL="2935440" indent="-560520">
              <a:spcBef>
                <a:spcPts val="3200"/>
              </a:spcBef>
              <a:buClr>
                <a:srgbClr val="ffffff"/>
              </a:buClr>
              <a:buSzPct val="120000"/>
              <a:buFont typeface="American Typewrit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merican Typewriter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79280" y="2971440"/>
            <a:ext cx="1084572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Click to edit the title text format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Users/lburch/Desktop/nymap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.scholastic.com/scholasticnews/games_quizzes/president_roles/?ESP=Teachers/ib/20090116/awa/sno_seven_hats_president_3_5///salp/tout////" TargetMode="External"/><Relationship Id="rId3" Type="http://schemas.openxmlformats.org/officeDocument/2006/relationships/image" Target="../media/image6.png"/><Relationship Id="rId4" Type="http://schemas.openxmlformats.org/officeDocument/2006/relationships/hyperlink" Target="http://teacher.scholastic.com/scholasticnews/games_quizzes/electiongame/game.asp?ESP=Teachers/ib/20080101/awa/sa_if_you_were_president_2_5///salp/tout////" TargetMode="External"/><Relationship Id="rId5" Type="http://schemas.openxmlformats.org/officeDocument/2006/relationships/image" Target="../media/image7.png"/><Relationship Id="rId6" Type="http://schemas.openxmlformats.org/officeDocument/2006/relationships/hyperlink" Target="http://teacher.scholastic.com/activities/bhistory/underground_railroad/" TargetMode="External"/><Relationship Id="rId7" Type="http://schemas.openxmlformats.org/officeDocument/2006/relationships/image" Target="../media/image8.png"/><Relationship Id="rId8" Type="http://schemas.openxmlformats.org/officeDocument/2006/relationships/hyperlink" Target="http://www2.scholastic.com/browse/scholasticNews.jsp?FromBrowseMod=true&amp;Ns=Pub_Date_Sort%7C1&amp;CurrPage=scholasticNews.jsp&amp;TopicValue=Scholastic%2520News" TargetMode="External"/><Relationship Id="rId9" Type="http://schemas.openxmlformats.org/officeDocument/2006/relationships/image" Target="../media/image9.png"/><Relationship Id="rId10" Type="http://schemas.openxmlformats.org/officeDocument/2006/relationships/hyperlink" Target="http://teacher.scholastic.com/activities/immigration/" TargetMode="External"/><Relationship Id="rId11" Type="http://schemas.openxmlformats.org/officeDocument/2006/relationships/image" Target="../media/image10.png"/><Relationship Id="rId12" Type="http://schemas.openxmlformats.org/officeDocument/2006/relationships/hyperlink" Target="http://teacher.scholastic.com/activities/iditarod/" TargetMode="External"/><Relationship Id="rId13" Type="http://schemas.openxmlformats.org/officeDocument/2006/relationships/image" Target="../media/image11.png"/><Relationship Id="rId14" Type="http://schemas.openxmlformats.org/officeDocument/2006/relationships/hyperlink" Target="http://www2.scholastic.com/browse/learn.jsp" TargetMode="External"/><Relationship Id="rId1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hinkfinity.org/EducatorHome.aspx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cnn.com/studentnews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nationalgeographic.com/xpeditions/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edsitement.neh.gov/" TargetMode="External"/><Relationship Id="rId9" Type="http://schemas.openxmlformats.org/officeDocument/2006/relationships/image" Target="../media/image15.png"/><Relationship Id="rId10" Type="http://schemas.openxmlformats.org/officeDocument/2006/relationships/hyperlink" Target="http://historyexplorer.americanhistory.si.edu/" TargetMode="External"/><Relationship Id="rId11" Type="http://schemas.openxmlformats.org/officeDocument/2006/relationships/image" Target="../media/image16.png"/><Relationship Id="rId12" Type="http://schemas.openxmlformats.org/officeDocument/2006/relationships/hyperlink" Target="http://memory.loc.gov/learn/" TargetMode="External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.scholastic.com/activities/explorations/" TargetMode="External"/><Relationship Id="rId3" Type="http://schemas.openxmlformats.org/officeDocument/2006/relationships/image" Target="../media/image18.png"/><Relationship Id="rId4" Type="http://schemas.openxmlformats.org/officeDocument/2006/relationships/hyperlink" Target="http://teacher.scholastic.com/activities/sciencewriting/" TargetMode="External"/><Relationship Id="rId5" Type="http://schemas.openxmlformats.org/officeDocument/2006/relationships/image" Target="../media/image19.png"/><Relationship Id="rId6" Type="http://schemas.openxmlformats.org/officeDocument/2006/relationships/hyperlink" Target="http://teacher.scholastic.com/activities/wwatch/" TargetMode="External"/><Relationship Id="rId7" Type="http://schemas.openxmlformats.org/officeDocument/2006/relationships/image" Target="../media/image20.png"/><Relationship Id="rId8" Type="http://schemas.openxmlformats.org/officeDocument/2006/relationships/hyperlink" Target="http://www.sciencenetlinks.com/" TargetMode="External"/><Relationship Id="rId9" Type="http://schemas.openxmlformats.org/officeDocument/2006/relationships/image" Target="../media/image21.png"/><Relationship Id="rId10" Type="http://schemas.openxmlformats.org/officeDocument/2006/relationships/hyperlink" Target="http://teacher.scholastic.com/activities/explorations/adaptation/?ESP=Teachers/ib/20090204/awa/sa_amnh_darwin_5_5///salp/tout////" TargetMode="External"/><Relationship Id="rId11" Type="http://schemas.openxmlformats.org/officeDocument/2006/relationships/image" Target="../media/image22.png"/><Relationship Id="rId12" Type="http://schemas.openxmlformats.org/officeDocument/2006/relationships/hyperlink" Target="http://www.nasa.gov/audience/forstudents/5-8/index.html" TargetMode="External"/><Relationship Id="rId13" Type="http://schemas.openxmlformats.org/officeDocument/2006/relationships/image" Target="../media/image23.png"/><Relationship Id="rId14" Type="http://schemas.openxmlformats.org/officeDocument/2006/relationships/hyperlink" Target="http://www2.scholastic.com/browse/learn.jsp" TargetMode="External"/><Relationship Id="rId1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eacher.scholastic.com/mathhunt/" TargetMode="External"/><Relationship Id="rId3" Type="http://schemas.openxmlformats.org/officeDocument/2006/relationships/image" Target="../media/image24.png"/><Relationship Id="rId4" Type="http://schemas.openxmlformats.org/officeDocument/2006/relationships/hyperlink" Target="http://teacher.scholastic.com/maven/" TargetMode="External"/><Relationship Id="rId5" Type="http://schemas.openxmlformats.org/officeDocument/2006/relationships/image" Target="../media/image25.png"/><Relationship Id="rId6" Type="http://schemas.openxmlformats.org/officeDocument/2006/relationships/hyperlink" Target="http://illuminations.nctm.org/" TargetMode="External"/><Relationship Id="rId7" Type="http://schemas.openxmlformats.org/officeDocument/2006/relationships/image" Target="../media/image26.png"/><Relationship Id="rId8" Type="http://schemas.openxmlformats.org/officeDocument/2006/relationships/hyperlink" Target="http://nlvm.usu.edu/en/nav/vLibrary.html" TargetMode="External"/><Relationship Id="rId9" Type="http://schemas.openxmlformats.org/officeDocument/2006/relationships/image" Target="../media/image27.png"/><Relationship Id="rId10" Type="http://schemas.openxmlformats.org/officeDocument/2006/relationships/hyperlink" Target="http://teacher.scholastic.com/activities/adventure/" TargetMode="External"/><Relationship Id="rId11" Type="http://schemas.openxmlformats.org/officeDocument/2006/relationships/image" Target="../media/image28.png"/><Relationship Id="rId12" Type="http://schemas.openxmlformats.org/officeDocument/2006/relationships/hyperlink" Target="http://voicethread.com/%23q.b8752.i68307" TargetMode="External"/><Relationship Id="rId13" Type="http://schemas.openxmlformats.org/officeDocument/2006/relationships/image" Target="../media/image29.png"/><Relationship Id="rId14" Type="http://schemas.openxmlformats.org/officeDocument/2006/relationships/hyperlink" Target="http://mathtrain.com/" TargetMode="External"/><Relationship Id="rId1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2.scholastic.com/browse/collection.jsp?id=250&amp;FullBreadCrumb=%253Ca+href%253D%2522http%253A%252F%252Fwww2.scholastic.com%252Fbrowse%252Fsearch%252F%253FNtt%253Dsmartboard%2526query%253Dsmartboard%2526Ntk%253DSCHL30_SI%2526Ntx%253Dmode%252Bmatchallpartial%2526N%253D0%2522+class%253D%2522endecaAll%2522%253EAll+Results%253C%252Fa%253E" TargetMode="External"/><Relationship Id="rId3" Type="http://schemas.openxmlformats.org/officeDocument/2006/relationships/image" Target="../media/image30.png"/><Relationship Id="rId4" Type="http://schemas.openxmlformats.org/officeDocument/2006/relationships/hyperlink" Target="http://content.scholastic.com/browse/collection.jsp?id=190" TargetMode="External"/><Relationship Id="rId5" Type="http://schemas.openxmlformats.org/officeDocument/2006/relationships/image" Target="../media/image31.png"/><Relationship Id="rId6" Type="http://schemas.openxmlformats.org/officeDocument/2006/relationships/hyperlink" Target="http://livepage.apple.com/" TargetMode="External"/><Relationship Id="rId7" Type="http://schemas.openxmlformats.org/officeDocument/2006/relationships/image" Target="../media/image32.png"/><Relationship Id="rId8" Type="http://schemas.openxmlformats.org/officeDocument/2006/relationships/hyperlink" Target="http://www2.scholastic.com/browse/search?query=smartboard" TargetMode="External"/><Relationship Id="rId9" Type="http://schemas.openxmlformats.org/officeDocument/2006/relationships/image" Target="../media/image33.png"/><Relationship Id="rId10" Type="http://schemas.openxmlformats.org/officeDocument/2006/relationships/hyperlink" Target="http://www.ncusd203.org/central/html/what/math/smartboard/" TargetMode="External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hyperlink" Target="http://www2.scholastic.com/browse/article.jsp?id=3749224&amp;FullBreadCrumb=%253Ca+href%253D%2522http%253A%252F%252Fwww2.scholastic.com%252Fbrowse%252Fsearch%252F%253FNtt%253Dsmartboard%2526query%253Dsmartboard%2526Ntk%253DSCHL30_SI%2526Ntx%253Dmode%252Bmatchallpartial%2526N%253D0%2522+class%253D%2522endecaAll%2522%253EAll+Results%253C%252Fa%253E" TargetMode="External"/><Relationship Id="rId14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loristechbytes.wikispaces.com/TCEA+2009" TargetMode="External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43080" y="393840"/>
            <a:ext cx="1230624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Harnessing the Power of the Internet in the Web 2.0 Classroom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75880" y="4656240"/>
            <a:ext cx="10845720" cy="2781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merican Typewriter"/>
              </a:rPr>
              <a:t>TCEA 2009</a:t>
            </a:r>
            <a:endParaRPr b="0" lang="en-US" sz="30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merican Typewriter"/>
              </a:rPr>
              <a:t>Lori Burch</a:t>
            </a:r>
            <a:endParaRPr b="0" lang="en-US" sz="30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merican Typewriter"/>
              </a:rPr>
              <a:t>Instructional Technology Specialist</a:t>
            </a:r>
            <a:endParaRPr b="0" lang="en-US" sz="30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merican Typewriter"/>
              </a:rPr>
              <a:t>Monroe 2-Orleans BOCES and Hilton Central Schools</a:t>
            </a:r>
            <a:endParaRPr b="0" lang="en-US" sz="3000" spc="-1" strike="noStrike">
              <a:solidFill>
                <a:srgbClr val="7e8484"/>
              </a:solidFill>
              <a:latin typeface="American Typewriter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merican Typewriter"/>
              </a:rPr>
              <a:t>Hilton, NY</a:t>
            </a:r>
            <a:endParaRPr b="0" lang="en-US" sz="3000" spc="-1" strike="noStrike">
              <a:solidFill>
                <a:srgbClr val="7e8484"/>
              </a:solidFill>
              <a:latin typeface="American Typewrite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6320" y="922320"/>
            <a:ext cx="8699400" cy="655308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2 minute geography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2743200" y="1066680"/>
            <a:ext cx="7772400" cy="58294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2738520" y="1065240"/>
            <a:ext cx="7772400" cy="58309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6"/>
          <a:stretch/>
        </p:blipFill>
        <p:spPr>
          <a:xfrm>
            <a:off x="1549440" y="1600200"/>
            <a:ext cx="10159920" cy="5194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78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3440" y="10540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8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623440" y="104148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78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333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1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623440" y="397512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9999"/>
                </a:solidFill>
                <a:uFillTx/>
                <a:latin typeface="American Typewriter"/>
                <a:hlinkClick r:id="rId14"/>
              </a:rPr>
              <a:t>Social Studies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78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3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623440" y="104148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78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333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623440" y="397512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Social Studies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78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3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623440" y="104148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78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333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623440" y="397512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9999"/>
                </a:solidFill>
                <a:uFillTx/>
                <a:latin typeface="American Typewriter"/>
                <a:hlinkClick r:id="rId14"/>
              </a:rPr>
              <a:t>Science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78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3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333440" y="39625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78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8623440" y="104148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8623440" y="397512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009999"/>
                </a:solidFill>
                <a:uFillTx/>
                <a:latin typeface="American Typewriter"/>
                <a:hlinkClick r:id="rId14"/>
              </a:rPr>
              <a:t>Math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78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3440" y="104148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6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623440" y="104148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7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78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333440" y="3975120"/>
            <a:ext cx="304812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29" name="" descr=""/>
          <p:cNvPicPr/>
          <p:nvPr/>
        </p:nvPicPr>
        <p:blipFill>
          <a:blip r:embed="rId12"/>
          <a:stretch/>
        </p:blipFill>
        <p:spPr>
          <a:xfrm>
            <a:off x="8623440" y="3975120"/>
            <a:ext cx="3047760" cy="228600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79280" y="748008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SMART Boards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1" name="">
            <a:hlinkClick r:id="rId13"/>
          </p:cNvPr>
          <p:cNvSpPr/>
          <p:nvPr/>
        </p:nvSpPr>
        <p:spPr>
          <a:xfrm>
            <a:off x="8714880" y="4812840"/>
            <a:ext cx="2615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merican Typewriter"/>
                <a:ea typeface="American Typewriter"/>
              </a:rPr>
              <a:t>Case Study</a:t>
            </a:r>
            <a:endParaRPr b="0" lang="en-US" sz="4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2" name=""/>
          <p:cNvSpPr/>
          <p:nvPr/>
        </p:nvSpPr>
        <p:spPr>
          <a:xfrm>
            <a:off x="8489880" y="2800440"/>
            <a:ext cx="330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SMART Tech</a:t>
            </a:r>
            <a:endParaRPr b="0" lang="en-US" sz="35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55600" y="1117440"/>
            <a:ext cx="10693440" cy="6096240"/>
          </a:xfrm>
          <a:prstGeom prst="rect">
            <a:avLst/>
          </a:prstGeom>
          <a:ln w="0">
            <a:noFill/>
          </a:ln>
          <a:effectLst>
            <a:outerShdw dist="254160" dir="54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79280" y="-178200"/>
            <a:ext cx="10845720" cy="146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merican Typewriter"/>
              </a:rPr>
              <a:t>Presentation Wiki</a:t>
            </a:r>
            <a:endParaRPr b="0" lang="en-US" sz="8000" spc="-1" strike="noStrike">
              <a:solidFill>
                <a:srgbClr val="ffffff"/>
              </a:solidFill>
              <a:latin typeface="American Typewriter"/>
            </a:endParaRPr>
          </a:p>
        </p:txBody>
      </p:sp>
      <p:sp>
        <p:nvSpPr>
          <p:cNvPr id="535" name=""/>
          <p:cNvSpPr/>
          <p:nvPr/>
        </p:nvSpPr>
        <p:spPr>
          <a:xfrm>
            <a:off x="1079640" y="7010280"/>
            <a:ext cx="108457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 u="sng">
                <a:solidFill>
                  <a:srgbClr val="ffffff"/>
                </a:solidFill>
                <a:uFillTx/>
                <a:latin typeface="American Typewriter"/>
                <a:ea typeface="American Typewriter"/>
              </a:rPr>
              <a:t>http://loristechbytes.wikispaces.com</a:t>
            </a:r>
            <a:endParaRPr b="0" lang="en-US" sz="4700" spc="-1" strike="noStrike">
              <a:solidFill>
                <a:srgbClr val="ffffff"/>
              </a:solidFill>
              <a:latin typeface="American Typewriter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